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E5AB-E10F-40E3-BBB1-6BFE443171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hr: speaking 1 – 10 mins; grammar – 15 mins; reading – 15 mins; speaking 2 –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E08B-7286-45A9-A870-F19E6050122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all true except 2 (voting is not mandatory in Germ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55CC-5629-418F-9118-17DF2957032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understanding of structures with concept questions and drill where necessary. Then allow learners to discuss and note down errors for post 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BB8B-0984-4367-B43D-EB49EA9EB49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print out the article, or get learners to read it online. If reading a paper copy, learners could underline or highlight all the points they want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8B4-1BC7-4980-9FC5-5CE71B767FF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leave the compulsory/optional language on the board/wall for learners to refer to. If time, re-pair learners so they can repeat the argument with different partners. Monitor for errors and note them down for post task erro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t learners tell each other at the end which arguments they really do agree wi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E0F-A3B3-4857-B219-9EE3C747C6C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0F2-F0A9-4A0F-95B9-0889EA9F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744-864F-45A4-B467-39EEB4FA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9B1-AABF-4815-947C-4558743A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347-ED0B-4995-B303-3AEA96F1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929-487F-4051-B724-5206A2BA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465-6FA9-48EA-A833-4BB53ABE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E22-AA9F-4924-8E08-21AA3847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016-F5D4-4235-A403-A58DC2A8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991-9C67-4378-B2C7-E0225069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9C4-1100-42E4-8509-6BB6E2EB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4FC-77C4-4109-826E-E821F7F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3B9-196F-4D70-8984-00E9C38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DF87-3523-4646-8AFA-D109A57824A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Is_it_a_good_idea_to_say_that_everyone_must_vote%3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int.org/sections/argument/2015/03/18/uri-220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ffffff"/>
                </a:solidFill>
                <a:latin typeface="Calibri"/>
              </a:rPr>
              <a:t>Voting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000" y="4437000"/>
            <a:ext cx="489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NEW INTERNATIONALIST  EASIER ENGLISH INTERMEDIATE READY LES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4920" y="3933720"/>
            <a:ext cx="37958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Grammar –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how to say things are optional and compulso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peaking –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about voting in different countries, and if voting should be compulsory or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Reading – </a:t>
            </a: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an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rue or false? - general elections?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is optio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has to 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only vote if you want to 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is compulsory in Brazil if you’re between 18 and 70, but you can vote if you like if you’re 16, 17 or over 70 (if you are literat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are fined if you don’t 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must vote in Australia because it’s mandat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don’t have a choice whether to vote or not 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at do you notice about the underlined language?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optional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has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only vote if you want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compulsory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Brazil if you’re between 18 and 70, but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you can vote if you like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f you’re 16, 17 or over 7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are fined if you don’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mu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vote in Australia becaus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t’s mandatory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a choice whether to vote or no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pa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Discuss your country and other countries – which do you think is bes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600200"/>
            <a:ext cx="4244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compuls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ve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veryone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s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re fined if you don’t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must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manda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on’t have a choice whether to vote or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is op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only vote if you want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can vote if you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don’t have to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 this article: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“Is it a good idea to make everyone vote?”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                       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N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eewiki.newint.org/index.php/Is_it_a_good_idea_to_say_that_everyone_must_vote%3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16369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7277040" y="3141720"/>
            <a:ext cx="16239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Now divide into pairs – A&amp;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13000"/>
            <a:ext cx="41716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A –     you think voting should be compulsory – try to persuade B with all the reason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413000"/>
            <a:ext cx="4171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B – you think voting should be optional – try to persuade A with all the argument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077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oic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Read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read the original argument: </a:t>
            </a:r>
            <a:r>
              <a:rPr b="0" lang="en-GB" sz="40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www.newint.org/sections/argument/2015/03/18/uri-220.jp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or (and?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write an article for a magazine about what you really think: “Should voting be compulsory?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227640" y="115920"/>
            <a:ext cx="2713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10:39Z</dcterms:created>
  <dc:creator>Linda Ruas</dc:creator>
  <dc:description/>
  <dc:language>en-US</dc:language>
  <cp:lastModifiedBy>Linda Ruas</cp:lastModifiedBy>
  <dcterms:modified xsi:type="dcterms:W3CDTF">2015-04-23T16:09:06Z</dcterms:modified>
  <cp:revision>7</cp:revision>
  <dc:subject/>
  <dc:title>Voting</dc:title>
</cp:coreProperties>
</file>